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056-A3ED-4AC5-A8C8-ED1E3D20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B64-7314-4C63-ABE3-017B9BE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CF9-33BE-45D7-A7BA-BD01C431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96-CF43-467B-8DAA-F7E46563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525-0FB5-44DA-BDBA-819B9F7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410-A09E-4252-BB5E-1EDE7FF7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131-7477-4465-9C79-15193811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7C-E497-49ED-9979-3890B89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96D-6B2B-4E4D-9EEB-EBFC3D85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891-AD10-476B-8FB6-5A81E19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F7B-E9DA-4091-A5F4-0EE37675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7C9-4341-49F3-8934-BDC4137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A0F-583D-4A3A-8A5B-9B0B608A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olve%20Using%20Addition%20or%20Subtraction.notebook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ving Algebraic Equations with Addition and Sub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5943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nda O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3048120"/>
            <a:ext cx="137160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to solve an algebraic equation, you have to isolate the variable.  (Get the letters on one side and the numbers on the oth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19520" y="3200400"/>
                <a:ext cx="3886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80880" y="3276720"/>
            <a:ext cx="2210040" cy="1739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get rid of the 5 by doing the opposite function of + which is 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962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-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0481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-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114800"/>
            <a:ext cx="2667240" cy="119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keep it balanced by doing the same to both sides of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20040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11480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410080"/>
            <a:ext cx="144756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s can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248520"/>
            <a:ext cx="22860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29000" y="5562720"/>
                <a:ext cx="2590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1219320"/>
            <a:ext cx="144756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66880" y="1371600"/>
                <a:ext cx="36576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80880" y="2362320"/>
            <a:ext cx="2514600" cy="916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opposite function.  What is the opposite of  - 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05740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295280"/>
            <a:ext cx="190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2514600"/>
            <a:ext cx="236232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keep it balanc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0"/>
            <a:ext cx="167652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048120" y="4114800"/>
                <a:ext cx="2708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733920"/>
            <a:ext cx="144792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447920"/>
            <a:ext cx="121932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209680"/>
            <a:ext cx="121932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ry These.  Make sure you show all your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+ 1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+ 1 = 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 + 78 =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23 =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x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– 2 =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+ 9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– 8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+ p =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019920"/>
            <a:ext cx="1295280" cy="45972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0:05Z</dcterms:created>
  <dc:creator>admin</dc:creator>
  <dc:description/>
  <dc:language>en-US</dc:language>
  <cp:lastModifiedBy>admin</cp:lastModifiedBy>
  <dcterms:modified xsi:type="dcterms:W3CDTF">2008-03-11T00:59:04Z</dcterms:modified>
  <cp:revision>2</cp:revision>
  <dc:subject/>
  <dc:title>Solving Algebraic Equations with Addition and Subtraction</dc:title>
</cp:coreProperties>
</file>